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2C01-9D99-4D80-946A-DEAA4A200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A293-A503-4198-AD72-5C6018ACE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EA74-3DF2-427C-A7FC-73E67E2C9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252-E37C-4148-AB81-3E4861E6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69C-0E55-4BAD-9CDF-E6B2E927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F23E-CDD5-4543-92D3-BA176578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CF57-A032-4FCD-8A8E-24C5BB20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325-EDAA-4ED7-B0D6-2B256ABC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0B9-3E28-4187-99FF-06EECEDA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242C-90BA-422C-AAD3-F3539AE6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B95-F55B-4D75-854B-DA161F63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4D7-6703-42B3-A8E0-A0E7BE71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2C7-22D0-44E2-AAD0-198D6D18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2C4-C7F8-45CC-990E-F6A04E7A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9C6F-4DD2-436F-8043-AFB5D046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D8D8-8A86-42F2-A19B-EB372B071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imah Mun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imah Mun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la! Mi llamo Naimah. Yo tengo catorce años. Yo vivo en New York. Mis dos hermanos esta fuerte. Mis dos hermanas esta buena.Yo soy joven y divertid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. Él es guapo.                                                        Nai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. Yo estoy cansada. Mi hermano puede ir conteg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.  ¿Tu quieres venir a mi casa? Yo estoy aburrid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44197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Zaara es mi hermana. Ella es bonita. Ella quiere venir. Ella tiene juguetes.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eguro tu quieres ven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os venir. Gracias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imah Mun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imah Mun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7"/>
          <p:cNvSpPr/>
          <p:nvPr/>
        </p:nvSpPr>
        <p:spPr>
          <a:xfrm>
            <a:off x="152280" y="3581280"/>
            <a:ext cx="1600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la! Mi llamo Naimah. Yo tengo catorce años. Yo vivo en New York. Mis dos hermanos esta fuerte. Mis dos hermanas esta buena.Yo soy joven y divertid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Donde esta tú casa?                                                        Nai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e nada. ¿cuánto ustedes vienen? Mi primas vienen, they have icecream                     Naimah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venir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. Gracias.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eetika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743200" y="4572000"/>
            <a:ext cx="44197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8:28:45Z</dcterms:modified>
  <cp:revision>111</cp:revision>
  <dc:subject/>
  <dc:title>Profile</dc:title>
</cp:coreProperties>
</file>